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64C-9B9D-4CB2-827C-C07AFA56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9D66-6650-49FB-AFC4-B44EDC7C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DA5-A810-40F4-A996-247F95DA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A398-C213-4BBE-AA3C-5C963989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5C9E-903E-4621-B380-26991455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73CE-CF13-4EB2-BA32-238D9119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E38F-995A-4B3D-AEE9-27561CF6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43F-9B60-48DB-908F-910322B9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C875-F0F2-415E-A3A8-9C12F8B5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CCE-56AC-4A7A-B792-C005F8F5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4D2C-39E6-47AB-ACF2-F99ADF7B8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625-B440-414A-8DCA-18836D70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2D08-916E-491A-80F2-B9832C97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107A-1275-4CCC-99F5-E00D72CA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974E-448F-4B39-9E52-A35C620C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C0B-1177-4E32-9B01-7A1D336A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CF0-337C-4602-9261-FAF42A8C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613-C822-4D1B-9E59-86610F99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6E1-8A17-4B0D-A042-33041CC9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EA0-CE0F-4DCD-AAF2-B75E8D4C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2488-8627-43EE-B959-3127FAE5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801F-D6ED-468C-9CA6-46A63E55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027-F93D-49BB-9B85-2B30B50F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915-591A-4DD0-9430-DC74FD53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26D-C08A-46D8-8CA4-A3EEF86A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1C8-869E-448F-B3F5-20B6C662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5933-722C-44AE-A995-A92A1600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95E7-6547-4CE4-8709-AEBBD814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4E7-CB8B-4E85-BAAE-27FB559B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CBE9-AABA-4129-8932-0436644D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2E7D-37AA-4D8D-8BA1-8A7B47DC0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D21-519D-436C-BCEC-F52F749A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C25-0B53-42B8-A2BA-9F064CB8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243-58CC-44D3-AA88-9998E0B6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36E-B339-4C61-92B9-4A1F6C00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y haven’t used it yet because no one was went and physically taken an inventory of the expenses to see what has been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5D3-B4B0-4E64-B86E-45547CF0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338-B1CE-4E3F-AEA3-34309EA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A40-8CE9-4925-AE5F-C44A2CE3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9F8-7B49-43B1-AA3D-10EFDD10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656-975B-4858-9EB8-54CB9173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6F0-B267-4087-8204-8F9B4CE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783-8993-47DF-9828-F2EE2E6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C6E-F312-43B2-AD90-9D7EA7F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F5-8392-401F-B5FD-91F6D77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84B-7769-49B2-AE7B-F556534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FC1-EBC4-4868-A0AF-9A41025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3B0-912E-4B49-B4DD-8A36BD0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50C9-77EA-4480-B526-4C782393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F3M Ac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– Completing the Account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pense: What Should the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alance B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5029200" y="3733920"/>
            <a:ext cx="3648240" cy="1076040"/>
            <a:chOff x="5029200" y="3733920"/>
            <a:chExt cx="3648240" cy="1076040"/>
          </a:xfrm>
        </p:grpSpPr>
        <p:sp>
          <p:nvSpPr>
            <p:cNvPr id="88" name="Rectangle 5"/>
            <p:cNvSpPr/>
            <p:nvPr/>
          </p:nvSpPr>
          <p:spPr>
            <a:xfrm>
              <a:off x="5915160" y="3733920"/>
              <a:ext cx="276228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029200" y="381456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7"/>
          <p:cNvSpPr/>
          <p:nvPr/>
        </p:nvSpPr>
        <p:spPr>
          <a:xfrm>
            <a:off x="1066680" y="527040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hat the balance “should be” is equal to the amount of supplies “used up”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Adjustment Would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570560" cy="32227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4876920" y="3962520"/>
            <a:ext cx="3681360" cy="1076040"/>
            <a:chOff x="4876920" y="3962520"/>
            <a:chExt cx="3681360" cy="1076040"/>
          </a:xfrm>
        </p:grpSpPr>
        <p:sp>
          <p:nvSpPr>
            <p:cNvPr id="94" name="Rectangle 5"/>
            <p:cNvSpPr/>
            <p:nvPr/>
          </p:nvSpPr>
          <p:spPr>
            <a:xfrm>
              <a:off x="5762880" y="3962520"/>
              <a:ext cx="279540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76920" y="402588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14400" y="419112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djusting entry as it would appear in the general jour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a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59974"/>
          <a:stretch/>
        </p:blipFill>
        <p:spPr>
          <a:xfrm>
            <a:off x="914400" y="1905120"/>
            <a:ext cx="77691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7085160" cy="5691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5002200" y="3335400"/>
            <a:ext cx="41418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Prepaid Insurance balance shows the total cost of insurance bought in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2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id Expe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570560" cy="313344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5181480" y="2971800"/>
            <a:ext cx="3394080" cy="1076400"/>
            <a:chOff x="5181480" y="2971800"/>
            <a:chExt cx="3394080" cy="1076400"/>
          </a:xfrm>
        </p:grpSpPr>
        <p:sp>
          <p:nvSpPr>
            <p:cNvPr id="106" name="Rectangle 5"/>
            <p:cNvSpPr/>
            <p:nvPr/>
          </p:nvSpPr>
          <p:spPr>
            <a:xfrm>
              <a:off x="6067440" y="297180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81480" y="303516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5146560" y="3375000"/>
            <a:ext cx="3648240" cy="1076400"/>
            <a:chOff x="5146560" y="3375000"/>
            <a:chExt cx="3648240" cy="1076400"/>
          </a:xfrm>
        </p:grpSpPr>
        <p:sp>
          <p:nvSpPr>
            <p:cNvPr id="111" name="Rectangle 5"/>
            <p:cNvSpPr/>
            <p:nvPr/>
          </p:nvSpPr>
          <p:spPr>
            <a:xfrm>
              <a:off x="6032520" y="3375000"/>
              <a:ext cx="276228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46560" y="345600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7"/>
          <p:cNvSpPr/>
          <p:nvPr/>
        </p:nvSpPr>
        <p:spPr>
          <a:xfrm>
            <a:off x="1092240" y="479268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at the balance “should be” is determined from someone calculating the portion of the insurance policy that is “unexpired” or “not  used up yet, but paid f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you Get $12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urance policy was purchased on Septemb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one year.  The fiscal period expires Dec. 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27160" y="3780000"/>
            <a:ext cx="7183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As of Dec. 31, how many months of insurance have been used 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- 4 months have been u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73160" y="5562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ach month c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$1800 / 12mo. = $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06640" y="556272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4 months have been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$150*4 = $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886200" y="56386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4"/>
          <p:cNvGrpSpPr/>
          <p:nvPr/>
        </p:nvGrpSpPr>
        <p:grpSpPr>
          <a:xfrm>
            <a:off x="3962520" y="4343400"/>
            <a:ext cx="3405240" cy="2079360"/>
            <a:chOff x="3962520" y="4343400"/>
            <a:chExt cx="3405240" cy="2079360"/>
          </a:xfrm>
        </p:grpSpPr>
        <p:sp>
          <p:nvSpPr>
            <p:cNvPr id="123" name="Rectangle 5"/>
            <p:cNvSpPr/>
            <p:nvPr/>
          </p:nvSpPr>
          <p:spPr>
            <a:xfrm>
              <a:off x="3962520" y="5261040"/>
              <a:ext cx="34052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" descr=""/>
            <p:cNvPicPr/>
            <p:nvPr/>
          </p:nvPicPr>
          <p:blipFill>
            <a:blip r:embed="rId2"/>
            <a:srcRect l="0" t="-34700" r="0" b="46884"/>
            <a:stretch/>
          </p:blipFill>
          <p:spPr>
            <a:xfrm rot="16200000">
              <a:off x="4497480" y="4562280"/>
              <a:ext cx="91440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Your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ew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056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5181480" y="2743200"/>
            <a:ext cx="3394080" cy="1076400"/>
            <a:chOff x="5181480" y="2743200"/>
            <a:chExt cx="3394080" cy="1076400"/>
          </a:xfrm>
        </p:grpSpPr>
        <p:sp>
          <p:nvSpPr>
            <p:cNvPr id="128" name="Rectangle 5"/>
            <p:cNvSpPr/>
            <p:nvPr/>
          </p:nvSpPr>
          <p:spPr>
            <a:xfrm>
              <a:off x="6067440" y="274320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81480" y="280656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7"/>
          <p:cNvSpPr/>
          <p:nvPr/>
        </p:nvSpPr>
        <p:spPr>
          <a:xfrm>
            <a:off x="1066680" y="45720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income statement account related to Prepaid Insurance is shown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90720" y="59436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ccounting clerk has not used this account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nse: What Should the Balance B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5105520" y="4114800"/>
            <a:ext cx="3647520" cy="1076400"/>
            <a:chOff x="5105520" y="4114800"/>
            <a:chExt cx="3647520" cy="1076400"/>
          </a:xfrm>
        </p:grpSpPr>
        <p:sp>
          <p:nvSpPr>
            <p:cNvPr id="135" name="Rectangle 5"/>
            <p:cNvSpPr/>
            <p:nvPr/>
          </p:nvSpPr>
          <p:spPr>
            <a:xfrm>
              <a:off x="5991120" y="4114800"/>
              <a:ext cx="27619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What the balance should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105520" y="4195800"/>
              <a:ext cx="91404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7"/>
          <p:cNvSpPr/>
          <p:nvPr/>
        </p:nvSpPr>
        <p:spPr>
          <a:xfrm>
            <a:off x="1092240" y="489744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hat the balance “should be” is the amount of the insurance policy that has expired at year’s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nts need to ensure that the statements they produc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, Accurate,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3962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304812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ecessary to 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are brought up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ate transactions are take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alculations are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accounting standards have been compli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 Adjustment Should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570200" cy="32274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4"/>
          <p:cNvGrpSpPr/>
          <p:nvPr/>
        </p:nvGrpSpPr>
        <p:grpSpPr>
          <a:xfrm>
            <a:off x="4800600" y="3809880"/>
            <a:ext cx="3681360" cy="1076040"/>
            <a:chOff x="4800600" y="3809880"/>
            <a:chExt cx="3681360" cy="1076040"/>
          </a:xfrm>
        </p:grpSpPr>
        <p:sp>
          <p:nvSpPr>
            <p:cNvPr id="141" name="Rectangle 5"/>
            <p:cNvSpPr/>
            <p:nvPr/>
          </p:nvSpPr>
          <p:spPr>
            <a:xfrm>
              <a:off x="5686560" y="3809880"/>
              <a:ext cx="279540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00600" y="387324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01320"/>
            <a:ext cx="75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0" t="0" r="0" b="38507"/>
          <a:stretch/>
        </p:blipFill>
        <p:spPr>
          <a:xfrm>
            <a:off x="762120" y="1752480"/>
            <a:ext cx="7769160" cy="2760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838080" y="52578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djusting entry for insurance as it would appear in the general 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3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 Arriving Invo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37360" cy="5257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334120" y="4419720"/>
            <a:ext cx="4141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 Accounts Payable balance does not include two invoices that arrived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late invoices have arri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12 for the Telephone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315 for the Utilities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914400" y="518148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ttle analysis is needed for this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990720" y="52578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imply enter the lat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990720" y="487692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imply enter the lat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570200" cy="3133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914400" y="502920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nd calculate the adjusted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nse: 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435480" y="1676520"/>
            <a:ext cx="3876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435480" y="1676520"/>
            <a:ext cx="38764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course of the fiscal period, things are allowed to get out of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entries get everything up-to-date and accurat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llowed to go inaccura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time, money,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at Should the Balance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497400" y="1752480"/>
            <a:ext cx="3814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at Looks Like in th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762120" y="1676520"/>
            <a:ext cx="7769160" cy="4117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838080" y="5711760"/>
            <a:ext cx="78073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djusting entry for late invoices as it would appear in the general jou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191120" y="2590920"/>
            <a:ext cx="47242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justing entries have brought balance sheet accounts up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055520" y="189000"/>
            <a:ext cx="6694200" cy="642600"/>
            <a:chOff x="1055520" y="189000"/>
            <a:chExt cx="6694200" cy="642600"/>
          </a:xfrm>
        </p:grpSpPr>
        <p:sp>
          <p:nvSpPr>
            <p:cNvPr id="175" name="Text Box 5"/>
            <p:cNvSpPr/>
            <p:nvPr/>
          </p:nvSpPr>
          <p:spPr>
            <a:xfrm>
              <a:off x="1055520" y="189000"/>
              <a:ext cx="650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rial"/>
                </a:rPr>
                <a:t>Adjusting Entries—Summ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7267320" y="40608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1546200" y="2279520"/>
            <a:ext cx="2001960" cy="137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1546200" y="3683160"/>
            <a:ext cx="2001960" cy="137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1546200" y="5073480"/>
            <a:ext cx="2001960" cy="1373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461960" y="1989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28600" y="5791320"/>
            <a:ext cx="8458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nd have recorded expenses in related accounts on the 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068480" y="219240"/>
            <a:ext cx="6694560" cy="642600"/>
            <a:chOff x="1068480" y="219240"/>
            <a:chExt cx="6694560" cy="642600"/>
          </a:xfrm>
        </p:grpSpPr>
        <p:sp>
          <p:nvSpPr>
            <p:cNvPr id="184" name="Text Box 5"/>
            <p:cNvSpPr/>
            <p:nvPr/>
          </p:nvSpPr>
          <p:spPr>
            <a:xfrm>
              <a:off x="1068480" y="219240"/>
              <a:ext cx="650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rial"/>
                </a:rPr>
                <a:t>Adjusting Entries—Summ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7280280" y="43632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001960" cy="137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001960" cy="1373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001960" cy="1373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526760" y="16002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4"/>
          <a:stretch/>
        </p:blipFill>
        <p:spPr>
          <a:xfrm>
            <a:off x="6858000" y="2209680"/>
            <a:ext cx="2093760" cy="137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2"/>
          <p:cNvSpPr/>
          <p:nvPr/>
        </p:nvSpPr>
        <p:spPr>
          <a:xfrm>
            <a:off x="5335560" y="16002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5"/>
          <a:stretch/>
        </p:blipFill>
        <p:spPr>
          <a:xfrm>
            <a:off x="4876920" y="2209680"/>
            <a:ext cx="2093760" cy="13734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4"/>
          <p:cNvGrpSpPr/>
          <p:nvPr/>
        </p:nvGrpSpPr>
        <p:grpSpPr>
          <a:xfrm>
            <a:off x="4732200" y="4038480"/>
            <a:ext cx="4411800" cy="1444680"/>
            <a:chOff x="4732200" y="4038480"/>
            <a:chExt cx="4411800" cy="1444680"/>
          </a:xfrm>
        </p:grpSpPr>
        <p:pic>
          <p:nvPicPr>
            <p:cNvPr id="194" name="Picture 15" descr=""/>
            <p:cNvPicPr/>
            <p:nvPr/>
          </p:nvPicPr>
          <p:blipFill>
            <a:blip r:embed="rId6"/>
            <a:srcRect l="0" t="49848" r="0" b="0"/>
            <a:stretch/>
          </p:blipFill>
          <p:spPr>
            <a:xfrm>
              <a:off x="6913440" y="4038480"/>
              <a:ext cx="22305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"/>
            <p:cNvPicPr/>
            <p:nvPr/>
          </p:nvPicPr>
          <p:blipFill>
            <a:blip r:embed="rId7"/>
            <a:srcRect l="0" t="0" r="0" b="49339"/>
            <a:stretch/>
          </p:blipFill>
          <p:spPr>
            <a:xfrm>
              <a:off x="4732200" y="4116240"/>
              <a:ext cx="2203560" cy="13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ing for Unearned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arned Revenue is a liability – it occurs when you are paid in advance of providing a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ccounting department puts advance payments into Revenue, this is an error that needs to be correc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Revenue (to reduce it); CR Unearned Revenue (to increas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ook at the adjusting entries for four m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Ex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rriving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arned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The Adjust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92240" y="5089680"/>
            <a:ext cx="78073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ment #1: Supp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219320" y="982800"/>
            <a:ext cx="7313400" cy="587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002200" y="3335400"/>
            <a:ext cx="4141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Supplies balance shows the total supplies purchased in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570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4"/>
          <p:cNvGrpSpPr/>
          <p:nvPr/>
        </p:nvGrpSpPr>
        <p:grpSpPr>
          <a:xfrm>
            <a:off x="4800600" y="3962520"/>
            <a:ext cx="3394080" cy="1076040"/>
            <a:chOff x="4800600" y="3962520"/>
            <a:chExt cx="3394080" cy="1076040"/>
          </a:xfrm>
        </p:grpSpPr>
        <p:sp>
          <p:nvSpPr>
            <p:cNvPr id="65" name="Rectangle 5"/>
            <p:cNvSpPr/>
            <p:nvPr/>
          </p:nvSpPr>
          <p:spPr>
            <a:xfrm>
              <a:off x="5686560" y="3962520"/>
              <a:ext cx="2508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800600" y="402552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The Balance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570560" cy="31334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5029200" y="3200400"/>
            <a:ext cx="3648240" cy="1076400"/>
            <a:chOff x="5029200" y="3200400"/>
            <a:chExt cx="3648240" cy="1076400"/>
          </a:xfrm>
        </p:grpSpPr>
        <p:sp>
          <p:nvSpPr>
            <p:cNvPr id="70" name="Rectangle 5"/>
            <p:cNvSpPr/>
            <p:nvPr/>
          </p:nvSpPr>
          <p:spPr>
            <a:xfrm>
              <a:off x="5915160" y="3200400"/>
              <a:ext cx="276228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should b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5029200" y="3281400"/>
              <a:ext cx="91440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Rectangle 7"/>
          <p:cNvSpPr/>
          <p:nvPr/>
        </p:nvSpPr>
        <p:spPr>
          <a:xfrm>
            <a:off x="1092240" y="4792680"/>
            <a:ext cx="780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hat the balance “should be” is determined from someone counting the supplies that remain in the business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570200" cy="31334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4648320" y="4267080"/>
            <a:ext cx="3405240" cy="2079360"/>
            <a:chOff x="4648320" y="4267080"/>
            <a:chExt cx="3405240" cy="2079360"/>
          </a:xfrm>
        </p:grpSpPr>
        <p:sp>
          <p:nvSpPr>
            <p:cNvPr id="76" name="Rectangle 5"/>
            <p:cNvSpPr/>
            <p:nvPr/>
          </p:nvSpPr>
          <p:spPr>
            <a:xfrm>
              <a:off x="4648320" y="5184720"/>
              <a:ext cx="34052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The required adju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6" descr=""/>
            <p:cNvPicPr/>
            <p:nvPr/>
          </p:nvPicPr>
          <p:blipFill>
            <a:blip r:embed="rId2"/>
            <a:srcRect l="0" t="-34700" r="0" b="46884"/>
            <a:stretch/>
          </p:blipFill>
          <p:spPr>
            <a:xfrm rot="16200000">
              <a:off x="5183280" y="4485960"/>
              <a:ext cx="91440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New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0370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4952880" y="2590920"/>
            <a:ext cx="3394080" cy="1076040"/>
            <a:chOff x="4952880" y="2590920"/>
            <a:chExt cx="3394080" cy="1076040"/>
          </a:xfrm>
        </p:grpSpPr>
        <p:sp>
          <p:nvSpPr>
            <p:cNvPr id="81" name="Rectangle 5"/>
            <p:cNvSpPr/>
            <p:nvPr/>
          </p:nvSpPr>
          <p:spPr>
            <a:xfrm>
              <a:off x="5838840" y="2590920"/>
              <a:ext cx="25081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What the balance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6" descr=""/>
            <p:cNvPicPr/>
            <p:nvPr/>
          </p:nvPicPr>
          <p:blipFill>
            <a:blip r:embed="rId2"/>
            <a:srcRect l="0" t="52875" r="0" b="0"/>
            <a:stretch/>
          </p:blipFill>
          <p:spPr>
            <a:xfrm>
              <a:off x="4952880" y="2653920"/>
              <a:ext cx="914400" cy="25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7"/>
          <p:cNvSpPr/>
          <p:nvPr/>
        </p:nvSpPr>
        <p:spPr>
          <a:xfrm>
            <a:off x="1066680" y="4495680"/>
            <a:ext cx="78073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income statement account related to Supplies is shown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66680" y="5486400"/>
            <a:ext cx="7807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e accounting clerk has not used this account during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19:05:36Z</dcterms:created>
  <dc:creator>Jarrod Ruston</dc:creator>
  <dc:description/>
  <dc:language>en-US</dc:language>
  <cp:lastModifiedBy>Cameron Stott</cp:lastModifiedBy>
  <dcterms:modified xsi:type="dcterms:W3CDTF">2016-04-26T17:59:06Z</dcterms:modified>
  <cp:revision>57</cp:revision>
  <dc:subject/>
  <dc:title>BAF3M Accounting</dc:title>
</cp:coreProperties>
</file>